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7A55-82BD-4709-929F-8B9F5A3DD5D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A631-2567-4554-A799-04F9271FB3E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.Begg Mikroekonomia  PWE r. 2007 s.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C73B-1434-4FA5-9A9A-C7A8A3F3B71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FDD-0447-4555-9F26-0397055D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3B6-DE57-456F-A5FD-4CBDA364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28C-1860-4F50-992E-E86C71DE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265-913F-483C-B0A8-67DC3EC3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87F4-F1A1-4138-8CEF-2A64C47B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B9D-8028-4C12-8402-D94ADA9E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D5C-B585-42C5-8072-840AD171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FA2-F492-4B59-98E4-757618BB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F4E-75AB-4DBA-B7A6-87C5E435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722-BA18-43A3-BAF5-C475CAB3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DB1-0F72-41A3-871F-004BA336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431-E377-48A7-99CF-D8401D70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A4EF-2B19-4E4A-8D47-F1701B7737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08000" y="2133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Wprowadzenie do zaawansowanych elementów popytu i podaży</a:t>
            </a:r>
            <a:endParaRPr b="1" lang="en-US" sz="4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Równowaga rynkowa, przesunięcia popytu i podaż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Równowaga rynkowa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341000"/>
            <a:ext cx="87152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a równowagi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est to cena zrównująca wielkość zapotrzebowania z ilością oferowan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unkcie równowagi cenowej krzywa popytu styka się z krzywą podaż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286000" y="3284640"/>
            <a:ext cx="4221000" cy="3240000"/>
          </a:xfrm>
          <a:prstGeom prst="rect">
            <a:avLst/>
          </a:prstGeom>
          <a:ln w="0">
            <a:noFill/>
          </a:ln>
        </p:spPr>
      </p:pic>
      <p:sp>
        <p:nvSpPr>
          <p:cNvPr id="54" name="Oval 3"/>
          <p:cNvSpPr/>
          <p:nvPr/>
        </p:nvSpPr>
        <p:spPr>
          <a:xfrm>
            <a:off x="4270320" y="4851360"/>
            <a:ext cx="112680" cy="1126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4000" y="1773360"/>
            <a:ext cx="8569080" cy="792000"/>
          </a:xfrm>
          <a:prstGeom prst="rect">
            <a:avLst/>
          </a:prstGeom>
          <a:solidFill>
            <a:srgbClr val="4f81b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Przesunięcie krzywej popytu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Jest to inaczej zmiana popytu na dane dobro przy stałej cen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Czynniki powodujące przesuwanie się krzywej popytu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00"/>
                </a:solidFill>
                <a:latin typeface="Calibri"/>
              </a:rPr>
              <a:t>Wzrost popytu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oznacza przesunięcie krzywej popytu w praw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Calibri"/>
              </a:rPr>
              <a:t>Spadek popytu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oznacza przesunięcie krzywej popytu w lew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Diagram 3" descr=""/>
          <p:cNvPicPr/>
          <p:nvPr/>
        </p:nvPicPr>
        <p:blipFill>
          <a:blip r:embed="rId1"/>
          <a:stretch/>
        </p:blipFill>
        <p:spPr>
          <a:xfrm>
            <a:off x="219240" y="3067200"/>
            <a:ext cx="8912160" cy="1296720"/>
          </a:xfrm>
          <a:prstGeom prst="rect">
            <a:avLst/>
          </a:prstGeom>
          <a:ln w="0">
            <a:noFill/>
          </a:ln>
        </p:spPr>
      </p:pic>
      <p:sp>
        <p:nvSpPr>
          <p:cNvPr id="59" name="Up Arrow 4"/>
          <p:cNvSpPr/>
          <p:nvPr/>
        </p:nvSpPr>
        <p:spPr>
          <a:xfrm>
            <a:off x="468360" y="4724280"/>
            <a:ext cx="358560" cy="360360"/>
          </a:xfrm>
          <a:prstGeom prst="upArrow">
            <a:avLst>
              <a:gd name="adj1" fmla="val 50000"/>
              <a:gd name="adj2" fmla="val 50028"/>
            </a:avLst>
          </a:prstGeom>
          <a:solidFill>
            <a:srgbClr val="006600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own Arrow 5"/>
          <p:cNvSpPr/>
          <p:nvPr/>
        </p:nvSpPr>
        <p:spPr>
          <a:xfrm>
            <a:off x="468360" y="5373720"/>
            <a:ext cx="358560" cy="35892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7"/>
          <p:cNvCxnSpPr/>
          <p:nvPr/>
        </p:nvCxnSpPr>
        <p:spPr>
          <a:xfrm>
            <a:off x="8100720" y="4905000"/>
            <a:ext cx="432360" cy="1080"/>
          </a:xfrm>
          <a:prstGeom prst="straightConnector1">
            <a:avLst/>
          </a:prstGeom>
          <a:ln w="5400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8"/>
          <p:cNvCxnSpPr/>
          <p:nvPr/>
        </p:nvCxnSpPr>
        <p:spPr>
          <a:xfrm flipH="1">
            <a:off x="8100360" y="5552640"/>
            <a:ext cx="432360" cy="1080"/>
          </a:xfrm>
          <a:prstGeom prst="straightConnector1">
            <a:avLst/>
          </a:prstGeom>
          <a:ln w="5400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Efekt substytucyjny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Calibri"/>
              </a:rPr>
              <a:t>Substytut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to produkt, który jest nabywany zamiast innych produktów z uwagi na ich zdolność do zaspokajania tych samych potrzeb, często przy korzystniejszych cenac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Przykłady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ola i Peps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ciąg i autobu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asło i margary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Calibri"/>
              </a:rPr>
              <a:t>Popyt na dane dobro zwiększa się wraz ze wzrostem cen jego substytutów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cdn.freebievectors.com/illustrations/7/t/train-clip-art-1/preview.jpg"/>
          <p:cNvPicPr/>
          <p:nvPr/>
        </p:nvPicPr>
        <p:blipFill>
          <a:blip r:embed="rId1"/>
          <a:stretch/>
        </p:blipFill>
        <p:spPr>
          <a:xfrm>
            <a:off x="6516720" y="3284640"/>
            <a:ext cx="2071800" cy="9302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4"/>
          <p:cNvSpPr/>
          <p:nvPr/>
        </p:nvSpPr>
        <p:spPr>
          <a:xfrm>
            <a:off x="155520" y="-1173240"/>
            <a:ext cx="40482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55520" y="-1173240"/>
            <a:ext cx="40482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http://www.easyvectors.com/assets/images/vectors/afbig/travel-trip-bus-clip-art.jpg"/>
          <p:cNvPicPr/>
          <p:nvPr/>
        </p:nvPicPr>
        <p:blipFill>
          <a:blip r:embed="rId2"/>
          <a:stretch/>
        </p:blipFill>
        <p:spPr>
          <a:xfrm>
            <a:off x="3564000" y="3214800"/>
            <a:ext cx="19209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Efekt komplementarny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obrami komplementarnymi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zywamy te, które uzupełniają się w zaspokajaniu konkretnej potrzeb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kład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amochód i benzyn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uchenka gazowa i gaz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omputer i moni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pyt na dane dobro spada wraz ze wzrostem ceny jego dobra komplementarn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static.freepik.com/darmowe-zdjecie/samochod-art-side-clip_91-10401.jpg"/>
          <p:cNvPicPr/>
          <p:nvPr/>
        </p:nvPicPr>
        <p:blipFill>
          <a:blip r:embed="rId1"/>
          <a:srcRect l="0" t="45560" r="0" b="0"/>
          <a:stretch/>
        </p:blipFill>
        <p:spPr>
          <a:xfrm>
            <a:off x="4140360" y="3213000"/>
            <a:ext cx="2500200" cy="1001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www.clker.com/cliparts/b/6/d/8/1195433841573371478jerrican__tienne_bersac_01.svg.med.png"/>
          <p:cNvPicPr/>
          <p:nvPr/>
        </p:nvPicPr>
        <p:blipFill>
          <a:blip r:embed="rId2"/>
          <a:stretch/>
        </p:blipFill>
        <p:spPr>
          <a:xfrm>
            <a:off x="7286760" y="3213000"/>
            <a:ext cx="13762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Wpływ zmiany dochodów na popyt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74" name="Diagram 3" descr=""/>
          <p:cNvPicPr/>
          <p:nvPr/>
        </p:nvPicPr>
        <p:blipFill>
          <a:blip r:embed="rId1"/>
          <a:stretch/>
        </p:blipFill>
        <p:spPr>
          <a:xfrm>
            <a:off x="890640" y="1768320"/>
            <a:ext cx="2779560" cy="4151520"/>
          </a:xfrm>
          <a:prstGeom prst="rect">
            <a:avLst/>
          </a:prstGeom>
          <a:ln w="0">
            <a:noFill/>
          </a:ln>
        </p:spPr>
      </p:pic>
      <p:pic>
        <p:nvPicPr>
          <p:cNvPr id="75" name="Diagram 4" descr=""/>
          <p:cNvPicPr/>
          <p:nvPr/>
        </p:nvPicPr>
        <p:blipFill>
          <a:blip r:embed="rId2"/>
          <a:stretch/>
        </p:blipFill>
        <p:spPr>
          <a:xfrm>
            <a:off x="5205240" y="1768320"/>
            <a:ext cx="278640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Przesunięcie krzywej podaży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628280"/>
            <a:ext cx="8686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znacza zwiększenie wolumenu produkcji przy niezmienionej cen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chodzi do niego w przypadk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zrost podaży prowadzi do ustalenia niższej ceny równowagi i większego wolumenu sprzedaż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zrost podaży oznacza przesunięcie krzywej podaży w lewo, a jej spadek w praw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Diagram 3" descr=""/>
          <p:cNvPicPr/>
          <p:nvPr/>
        </p:nvPicPr>
        <p:blipFill>
          <a:blip r:embed="rId1"/>
          <a:stretch/>
        </p:blipFill>
        <p:spPr>
          <a:xfrm>
            <a:off x="-73080" y="2914560"/>
            <a:ext cx="92170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06T09:22:47Z</dcterms:modified>
  <cp:revision>16</cp:revision>
  <dc:subject/>
  <dc:title>Slajd 1</dc:title>
</cp:coreProperties>
</file>